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FB2-7497-440C-99BA-BE368068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37E-6E0F-426E-BE13-9F8F6343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EFF7-5E80-4D1E-9551-B18003D3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4DF-A9E0-4894-BDB5-69570276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32211-93A7-432B-A60F-8CE3C5BD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5A77A-4FB3-442B-88D9-0296F8A5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28BCF-5D78-4988-A5BE-D5A58D63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E8C25-50BA-4DE4-BDBC-F6F46C6A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A8375-691C-43EB-A40D-B5B40624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E3D62-73C4-4CD1-8492-33CB52A6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B2F0D-7D1A-465D-9A0A-0C6BF109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5DB-E8F8-440C-A13C-AA2BC54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A5A4B-DA0C-449B-95B8-D360BA38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58C9F-6FD0-42DF-B6CC-3D12B3CE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91928-C138-4BDC-A0DA-7695D5ED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593E0-F97A-44A1-8F8B-F2B2784B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3DBE9-11F6-4B98-BA2E-2F37A229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7262F-1FCA-4860-8C68-2390CABA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F624E-AD90-4B1D-8C56-143144A3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A3FF0-C634-4055-AEE8-76CAF8C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111FD-8096-4487-9882-0FC6A3EC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7B3C8-A94E-4F73-8678-8E7D1395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283-652A-43B4-AD77-46E49FF4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C0E98-240C-4D0E-B79A-40603F3E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EE50C-E4EB-4154-9CE0-2CD3CAB9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9F73E-8300-406B-B1A2-5C1FA7E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39E0C-46CD-48CD-9AFD-A6B28E0E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BB86A-B5E7-445A-8346-E508E71D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0E558-5067-4B8D-A2FB-F801DE27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2B0D5-3A53-4433-A939-F2ACFE64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DB693-8070-479D-AFAC-79C69788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BB9F5-B69C-4C47-93F9-A5AB8E71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BA69-934C-449D-8BCD-E2C6B6F2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52B-0AB2-4B1A-A911-6C693410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E2B7-BE8F-4A38-B644-3D901E9B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DCA0-33D0-4A35-A4B7-F0FC39F4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586A-3EAF-47FC-BB33-773C06F2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7B9A4-7CA7-49ED-9162-239E9EA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94F94-60CF-400F-B94B-7F742F1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4E30-4F72-4C3C-82E0-079EA03F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199A6-FD1E-4984-9035-4F8F8EE7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F955B-6BD0-4DD4-B5A5-5531DD70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52994-1216-4327-AA12-31F24B7B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9DA-6B74-4A85-A5EC-7BC4888E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C02-9A12-4751-81B6-2CA7AB92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3D9-497F-4AED-A2A7-A437DBEC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EFA-3679-4013-86D2-BB7BFAF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94A-8FA1-49A4-9155-6E49AB9E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6B89-71E5-48B4-8C9B-5BE6737AA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12AE-05F8-4B7D-9DC5-A6458FF451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5532-2E41-4CAD-9ABF-9B3FD90140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FD3E-53FE-4903-8827-152E616047A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bgnet.mobot.org/" TargetMode="External"/><Relationship Id="rId2" Type="http://schemas.openxmlformats.org/officeDocument/2006/relationships/hyperlink" Target="http://www.blueplanetbiomes.org/world_biomes.htm" TargetMode="External"/><Relationship Id="rId3" Type="http://schemas.openxmlformats.org/officeDocument/2006/relationships/hyperlink" Target="http://www.ucmp.berkeley.edu/exhibits/biomes/ind" TargetMode="External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obot.org/hort/images/Clim1-1.jpg&amp;imgrefurl=http://www.mobot.org/hort/gardens/CLtropfor.shtml&amp;usg=__1UEoDbMwIBJIcm4rOXrCLjkssPI=&amp;h=400&amp;w=420&amp;sz=84&amp;hl=en&amp;start=2&amp;zoom=1&amp;um=1&amp;itbs=1&amp;tbnid=qvl5JYYojgPa9M:&amp;tbnh=119&amp;tbnw=125&amp;prev=/images%3Fq%3Drainforests%26um%3D1%26hl%3Den%26safe%3Dactive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ww.celsias.com/media/uploads/admin/african_rainforest2.jpg&amp;imgrefurl=http://www.celsias.com/article/importance-african-forests-carbon-sinks/&amp;usg=__c0rSqngXdm3tdDA83Tuolxn5QPU=&amp;h=480&amp;w=640&amp;sz=68&amp;hl=en&amp;start=6&amp;zoom=1&amp;um=1&amp;itbs=1&amp;tbnid=gXYOB8HKHlBR6M:&amp;tbnh=103&amp;tbnw=137&amp;prev=/images%3Fq%3Drainforests%26um%3D1%26hl%3Den%26safe%3Dactive%26tbs%3Disch:1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xzooberance.com/virtual%2520zoo/they%2520walk/lemur/Lemur%2520485029.jpg&amp;imgrefurl=http://www.exzooberance.com/virtual%2520zoo/they%2520walk/lemur/lemur.htm&amp;usg=__7KO7rIym24bJT84r-HjXMflL1NM=&amp;h=512&amp;w=768&amp;sz=319&amp;hl=en&amp;start=10&amp;zoom=1&amp;itbs=1&amp;tbnid=vAti_nT_ixIgGM:&amp;tbnh=95&amp;tbnw=142&amp;prev=/images%3Fq%3Dlemur%26hl%3Den%26safe%3Dactiv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2010vancouver.ca/spidermonkey.jpg&amp;imgrefurl=http://2010vancouver.ca/spider-monkey-killed-missing-from-vancouver-zoo-019759.php&amp;usg=__O7q_FfUPMcwE-_bdM8FnPqR5anc=&amp;h=378&amp;w=360&amp;sz=28&amp;hl=en&amp;start=3&amp;zoom=1&amp;itbs=1&amp;tbnid=L9rqVJStwFaQdM:&amp;tbnh=122&amp;tbnw=116&amp;prev=/images%3Fq%3Dspider%2Bmonkey%26hl%3Den%26safe%3Dactive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nimals.timduru.org/dirlist/jaguar/jaguar-walks_on_grassland.jpg&amp;imgrefurl=http://replantingtherainforests.org/site/index.php/Wildlife/jaguars-caught-in-conservations-spotlight.html&amp;usg=__lnzl3o7xk-5wpmUER4XUq36kNGY=&amp;h=600&amp;w=800&amp;sz=157&amp;hl=en&amp;start=3&amp;zoom=1&amp;itbs=1&amp;tbnid=8JYOyrUs2ACScM:&amp;tbnh=107&amp;tbnw=143&amp;prev=/images%3Fq%3Djaguars%26hl%3Den%26safe%3Dactive%26gbv%3D2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hyperlink" Target="http://images.google.com/imgres?imgurl=http://crowningglory.co.in/coconut_tree5.jpg&amp;imgrefurl=http://crowningglory.co.in/NatInRemyHair.htm&amp;usg=__nWNIpZIUH1GpJlW9u5-uOdpQ-io=&amp;h=450&amp;w=360&amp;sz=148&amp;hl=en&amp;start=7&amp;zoom=1&amp;itbs=1&amp;tbnid=ibAinceI22O2xM:&amp;tbnh=127&amp;tbnw=102&amp;prev=/images%3Fq%3Dcoconut%2Btree%26hl%3Den%26safe%3Dactive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ngabay.com/images/peru/manu/Manu_1023_2431.JPG&amp;imgrefurl=http://travel.mongabay.com/pix/peru/manu-Manu_1023_2431.html&amp;usg=__mpyzX7PrB9NRW43kJsJYUJjcRUg=&amp;h=600&amp;w=400&amp;sz=292&amp;hl=en&amp;start=8&amp;zoom=1&amp;itbs=1&amp;tbnid=c8mo2jvlDNXtIM:&amp;tbnh=135&amp;tbnw=90&amp;prev=/images%3Fq%3Dstrangler%2Bfig%2Btree%26hl%3Den%26safe%3Dactive%26gbv%3D2%26tbs%3Disch: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etterhardwoods.com/wp-content/uploads/2008/09/tualang-tree.jpg&amp;imgrefurl=http://betterhardwoods.com/tualang/&amp;usg=__j9QDSUqitpgDi2VRL9hW6KdQQQY=&amp;h=640&amp;w=428&amp;sz=93&amp;hl=en&amp;start=1&amp;zoom=1&amp;itbs=1&amp;tbnid=STy9BwDjxgMz2M:&amp;tbnh=137&amp;tbnw=92&amp;prev=/images%3Fq%3Dtualang%2Btree%26hl%3Den%26safe%3Dactive%26sa%3DN%26gbv%3D2%26ndsp%3D20%26tbs%3Disch:1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295280" y="304920"/>
            <a:ext cx="65534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38160">
                  <a:solidFill>
                    <a:srgbClr val="996633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66ff66"/>
                    </a:gs>
                    <a:gs pos="50000">
                      <a:srgbClr val="996633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ainforest</a:t>
            </a:r>
            <a:endParaRPr b="0" lang="en-US" sz="9600" spc="1" strike="noStrike">
              <a:ln w="38160">
                <a:solidFill>
                  <a:srgbClr val="996633"/>
                </a:solidFill>
                <a:prstDash val="sysDot"/>
                <a:miter/>
              </a:ln>
              <a:gradFill rotWithShape="0">
                <a:gsLst>
                  <a:gs pos="0">
                    <a:srgbClr val="66ff66"/>
                  </a:gs>
                  <a:gs pos="50000">
                    <a:srgbClr val="996633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5562720" cy="3679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5791320" y="2133720"/>
            <a:ext cx="3200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onica Sheri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791320" y="335268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ddalyn Erat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91320" y="4343400"/>
            <a:ext cx="312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teven Domingu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er coats of fur so they can withstand the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bility to climb trees so that they can escape from predators and because there are a bunch of t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bility to swim to cool off because it is mild in rainfor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7239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daptations of organisms that live in Rainforest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impact on rainforests are normally never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es are cut down, different plants are used for medicine, and land is torn do to make room for buildings of different typ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nsure safety we can stop tearing up trees and stop taking wild animals from their h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52280" y="0"/>
            <a:ext cx="8686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uman impact on rainforest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d what can be done to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nsure the survival of rainforest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es are used to build ho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ts can be used for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are killed for their fur or fea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are also put in zoos for enter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0"/>
            <a:ext cx="8763120" cy="16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ts of rainforest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t are worth mone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e Mammal that lives in the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e Plant that lives in the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e continent that has a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 country that has a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52280"/>
            <a:ext cx="8458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Now for a short qu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t least one adaptation of an organism so it can be able to survive in the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usual weather in a rainfor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usual tempera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228600"/>
            <a:ext cx="8381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Quiz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mbgnet.mobot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http://www.blueplanetbiomes.org/world_biomes.ht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http://www.ucmp.berkeley.edu/exhibits/biomes/i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ex.p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logy the dynamics of life text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0"/>
            <a:ext cx="8458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33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3300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ferences</a:t>
            </a:r>
            <a:endParaRPr b="0" lang="en-US" sz="1800" spc="1" strike="noStrike">
              <a:ln w="38160">
                <a:solidFill>
                  <a:srgbClr val="993300"/>
                </a:solidFill>
                <a:prstDash val="sysDot"/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3300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addalyn Erato: #1-3 and powerpoi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even Domingues: #4,5,and 9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nica Sherin: #6-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0880" y="228600"/>
            <a:ext cx="8305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o is in charge of wha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e rainfo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emperature: about 60 degrees Fahrenhe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precipitation: about 100 inches of rain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228600"/>
            <a:ext cx="830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ypes of Rainfores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1676520"/>
            <a:ext cx="41148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pical rainfo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emperature: about 77 degrees Fahrenh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Precipitation: 80-400 inches of rain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6002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153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nforest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s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228600"/>
            <a:ext cx="7162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logic Featur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600200"/>
            <a:ext cx="2361960" cy="22478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624560"/>
            <a:ext cx="2971800" cy="2233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0" y="4768920"/>
            <a:ext cx="3733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urs are usually located on Madagasc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urs are usually 2 feet tall not including their t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murs eat fruit and some Ins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905120" y="152280"/>
            <a:ext cx="6095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463416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emur</a:t>
            </a:r>
            <a:endParaRPr b="0" lang="en-US" sz="1800" spc="1" strike="noStrike">
              <a:ln w="25560">
                <a:solidFill>
                  <a:srgbClr val="463416"/>
                </a:solidFill>
                <a:prstDash val="sysDot"/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430848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 Monkeys are located in Central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 monkeys are usually 15-20 inches tall, not including their ta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der Monkeys eat fruit, nuts, and occasionally ins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00200" y="1522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pider Mon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80160" y="4267080"/>
            <a:ext cx="2463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guars are found in Central and South Ame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guars eat different kinds of animals including de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guars can grow from 5.5 – 8 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92640"/>
            <a:ext cx="3429000" cy="2565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 rot="5400000">
            <a:off x="5752800" y="2857320"/>
            <a:ext cx="57913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c9925b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996633"/>
                    </a:gs>
                    <a:gs pos="50000">
                      <a:srgbClr val="000000"/>
                    </a:gs>
                    <a:gs pos="100000">
                      <a:srgbClr val="996633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Jaguars</a:t>
            </a:r>
            <a:endParaRPr b="0" lang="en-US" sz="1800" spc="1" strike="noStrike">
              <a:ln w="25560">
                <a:solidFill>
                  <a:srgbClr val="c9925b"/>
                </a:solidFill>
                <a:prstDash val="sysDot"/>
                <a:miter/>
              </a:ln>
              <a:gradFill rotWithShape="0">
                <a:gsLst>
                  <a:gs pos="0">
                    <a:srgbClr val="996633"/>
                  </a:gs>
                  <a:gs pos="50000">
                    <a:srgbClr val="000000"/>
                  </a:gs>
                  <a:gs pos="100000">
                    <a:srgbClr val="996633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Coconut Tree can produce up to 50 n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onut tree oil is used in soaps, and margar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ried meat can be used in cake, cookies, and p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19320" y="228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conut Tre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62840" y="4267080"/>
            <a:ext cx="2081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ngler Figs are one of the most important plants in a rainfor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ndreds of animals feed on the Strangler Figs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ngler Figs are Tall Canopy Tr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2286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rangler Fig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70880" y="3962520"/>
            <a:ext cx="1473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ualang can reach up to 250 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ualang have disk shape honeycombs hanging from the side of the t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ualang can produce h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371600" y="22860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6633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9900"/>
                    </a:gs>
                    <a:gs pos="50000">
                      <a:srgbClr val="996633"/>
                    </a:gs>
                    <a:gs pos="100000">
                      <a:srgbClr val="00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ualang</a:t>
            </a:r>
            <a:endParaRPr b="0" lang="en-US" sz="1800" spc="1" strike="noStrike">
              <a:ln w="25560">
                <a:solidFill>
                  <a:srgbClr val="996633"/>
                </a:solidFill>
                <a:prstDash val="sysDot"/>
                <a:miter/>
              </a:ln>
              <a:gradFill rotWithShape="0">
                <a:gsLst>
                  <a:gs pos="0">
                    <a:srgbClr val="009900"/>
                  </a:gs>
                  <a:gs pos="50000">
                    <a:srgbClr val="996633"/>
                  </a:gs>
                  <a:gs pos="100000">
                    <a:srgbClr val="0099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38920" y="3429000"/>
            <a:ext cx="2305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student</cp:lastModifiedBy>
  <dcterms:modified xsi:type="dcterms:W3CDTF">2010-10-28T13:17:3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